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F0C2-80A0-43D8-9F8D-A0EEAB39F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4760" y="3875400"/>
            <a:ext cx="6933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3BFF-B9C7-4A0A-861F-E9F0D7C5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47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579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D16D-5539-4156-9C8D-A5ADDF3F4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49080" y="144756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93400" y="144756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4760" y="387540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49080" y="387540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93400" y="387540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1AA1-100F-46E9-8747-0B75BC985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B1FA-A4C6-41B5-BBA1-498C2ABBA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F8E0-4FD0-4287-8887-418B6441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25B9A-A16B-48A1-87C2-647EA354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18DC-E5F1-4E34-A8ED-DAF34DC8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E9A5-02C3-4322-A442-D8EDF349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04760" y="228240"/>
            <a:ext cx="69339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F10C-FF01-4245-AA59-7B3CEADF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47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592C-046B-4340-A7E2-A0D08D95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9F77-EC11-413C-9E90-44B59F0B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579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6373-1DD9-4A41-81D1-C3B2D6ED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4760" y="3875400"/>
            <a:ext cx="6933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C32B-4CA1-4835-BDE0-10BA41EC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4760" y="3875400"/>
            <a:ext cx="6933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8ACF-295A-4BB9-8DB7-A5C6D1BD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47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579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3055-DF68-48F6-BC67-E60AB79A8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49080" y="144756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93400" y="144756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4760" y="387540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49080" y="387540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93400" y="387540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132B-AE1D-4D9D-A377-0926671F7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5EF6-01FF-43DD-97FD-1CE86FE5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4BE6-5DEC-425E-BD3C-3C23C772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109C-7E66-4E45-9733-25C7926F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4760" y="228240"/>
            <a:ext cx="69339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6161-F41A-42A6-8F95-56B51423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47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3F6F-FADE-4117-953E-4A658385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579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AB74-AE3D-4C7C-AAF9-92CE65A7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4760" y="3875400"/>
            <a:ext cx="6933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8210-0FEA-4F85-AFD7-A2BB9289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81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43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7F69-1034-4549-9AAC-C7E71D2A77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33560" y="2134800"/>
            <a:ext cx="51814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D045-95FF-4DBB-86FC-F759A73574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33560" y="2134800"/>
            <a:ext cx="51814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 Black"/>
              </a:rPr>
              <a:t>Permutations &amp; Combinations</a:t>
            </a:r>
            <a:endParaRPr b="0" lang="en-US" sz="44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738600" y="4038480"/>
            <a:ext cx="517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abil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 Black"/>
              </a:rPr>
              <a:t>Question</a:t>
            </a: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05120" y="14475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roup of 4 journalists is to be chosen to cover a murder trial.  There are 5 male and 7 female journalists available.  How many possible groups can be form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sting of 2 men and 2 wom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sting of a least one woma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ution   a)  2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49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Arial Black"/>
              </a:rPr>
              <a:t>Application to Probability</a:t>
            </a:r>
            <a:endParaRPr b="0" lang="en-US" sz="36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(x) =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# of favourable outc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tal number of outc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cards are picked without replacement from a deck of 52 cards.  What is the probability that both are jack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 Black"/>
              </a:rPr>
              <a:t>Solution</a:t>
            </a: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(2 jacks) =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2 jacks from 4 ja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cards from 52 c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= 6      = 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5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1362     2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388620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37339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7339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The student council forms a sub-committee of 5 council members to look at how funds raised should be spent.  If there are a total of 15 student council members, 6 males and 9 females, what is the probability that the sub-committee will consist of exactly 4 females? At least 4 females?</a:t>
            </a:r>
            <a:endParaRPr b="0" lang="en-US" sz="24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04760" y="3352680"/>
            <a:ext cx="6933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(4 females, 1male)  = (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 = (126)(6)  = 3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5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3003      1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(at least 4 females) = P(4 females) + P(5 femal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(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 + (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  =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5                        1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5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80988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37339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20120" y="373392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952880" y="52578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7120" y="52578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848720" y="51814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 Black"/>
              </a:rPr>
              <a:t>Warm-up</a:t>
            </a: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distinguishable permutations are there for the letters in your last na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 Black"/>
              </a:rPr>
              <a:t>Permutations</a:t>
            </a: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rrangement of a set of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  Most bankcards can be used to access an account by entering a 4-digit PIN number.  However knowing these 4 digits is not enough to access the account.  The digits have to be in the correct order.  Since the order is important, we must consider each arrangement as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 Black"/>
              </a:rPr>
              <a:t>Combinations</a:t>
            </a: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election from a group of objects without regard to or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order were not important then any arrangement of the 4 numbers would access your bank accou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Arial Black"/>
              </a:rPr>
              <a:t>An expression for permutations</a:t>
            </a:r>
            <a:endParaRPr b="0" lang="en-US" sz="36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05120" y="1447560"/>
            <a:ext cx="72388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umber of permutations of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bjects taken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a time reads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permute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276720" y="2971800"/>
                <a:ext cx="327636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e>
                        </m:d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Arial Black"/>
              </a:rPr>
              <a:t>Permutations with repetitions</a:t>
            </a:r>
            <a:endParaRPr b="0" lang="en-US" sz="36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05120" y="1447920"/>
            <a:ext cx="67816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umber of permutations of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bjects, wher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the same of one kind,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the same of another kind, and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the same of yet another kind, can be represented by the express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114800" y="3886200"/>
                <a:ext cx="144792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!</m:t>
                        </m:r>
                        <m:r>
                          <m:t xml:space="preserve">b</m:t>
                        </m:r>
                        <m:r>
                          <m:t xml:space="preserve">!</m:t>
                        </m:r>
                        <m:r>
                          <m:t xml:space="preserve">c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 Black"/>
              </a:rPr>
              <a:t>Circular Permutations</a:t>
            </a: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general, the number of ways of arranging n objects around a circle i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n-1)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  At a graduation party, guests were seated in groups of 10 at circular tables.  How many permutations are there for each tab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10-1)! = 9! = 36288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Arial Black"/>
              </a:rPr>
              <a:t>An expression for Combinations</a:t>
            </a:r>
            <a:endParaRPr b="0" lang="en-US" sz="36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05120" y="144756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umber of combinations of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tems taken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t a time read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 choose 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429000" y="3352680"/>
                <a:ext cx="3124080" cy="13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!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e>
                        </m:d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 Black"/>
              </a:rPr>
              <a:t>Diagonals in a Polygon</a:t>
            </a: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05120" y="1447560"/>
            <a:ext cx="6858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diagonals are there in a octag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 2 points out of 8 to be joined, then don’t count adjacent pai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10080" y="1981080"/>
            <a:ext cx="1524240" cy="1371600"/>
          </a:xfrm>
          <a:prstGeom prst="octagon">
            <a:avLst>
              <a:gd name="adj" fmla="val 29287"/>
            </a:avLst>
          </a:prstGeom>
          <a:solidFill>
            <a:srgbClr val="586f9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7086600" y="4114800"/>
                <a:ext cx="165096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2T20:08:21Z</dcterms:created>
  <dc:creator>nbdoe</dc:creator>
  <dc:description/>
  <cp:keywords/>
  <dc:language>en-US</dc:language>
  <cp:lastModifiedBy>nbdoe</cp:lastModifiedBy>
  <dcterms:modified xsi:type="dcterms:W3CDTF">2007-09-22T23:25:35Z</dcterms:modified>
  <cp:revision>9</cp:revision>
  <dc:subject/>
  <dc:title>Permutations &amp; Combin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61033</vt:lpwstr>
  </property>
</Properties>
</file>